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737-F318-471B-AC3D-11D34C0F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963-0295-424D-A9F9-E69416EC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C0914-4771-4B2B-BC50-1F784C4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1F4FB-6AF6-4C85-9493-B147143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781FD-4C44-49E0-BCFE-975832B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BBAD1-6DA6-405D-AF4A-4467BBFF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EF493-A504-4BF4-99EC-C72A43A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5D5F9-5F50-41FD-BDF8-7DD4AE96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14F68-0C86-4102-864F-B53D197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42ABB8-2198-459D-B083-3339BE1C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D18E35-F8F3-4F2C-94B8-7DBD16F3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D04-D2B2-44C2-B64B-4044D426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376-1CF4-4DA2-BBC9-11325A60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D8E94-1F7E-44E8-B700-B695CCC5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43FB1-0DF3-4E1A-A8C9-02E89212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9083-DE26-463C-9CC1-32100849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F4F0-2081-4894-B041-99F7A56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CD44C-BD81-48E8-8B76-DBC6F52F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8A1D5-A9F3-468B-B60B-A24CD6A5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A0F0A-E6D4-405E-AB66-33F12EC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B35-DBB5-4EDE-91EA-9793344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9437-945A-4575-95CD-4561141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782B0-B0D9-418F-9ECD-A9022DD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6A874-0E85-4950-B501-56CA2287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64FC0-63DA-42FC-AF75-04813F4C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C07CA-31BB-4FC6-AB6E-CCAEDA83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9F55-3C2D-47BF-AB8F-7AEB4C7E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0786-A412-4E6D-9D4F-9953012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33C0-55FD-46EB-BED9-E4C2913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35D6-0074-4AD0-AD4B-EA878D75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1734-C6BB-4442-ABF1-3074342E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A36-B6B9-4DAB-8A39-25F88F0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77CA-E8F0-413D-ACA3-A40CE6CF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39C7-004D-4C12-99E6-C9B8F18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F3CF-C155-4C39-85F9-95DE4E0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CE56-BC66-4023-A9FC-741D17B0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4919-D401-4BEA-BB53-EC8E5DE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460D-D9E7-484C-AB91-A338F482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0D7E-67CC-4093-AED9-BED7901F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4E3A7-F5D5-43AD-A179-1F7F96AC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645C1-202E-4242-93E2-08C8CCFA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55E51-281F-44A2-98DB-5E28C9EC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1BA-AD2B-4ADA-9EF5-85CFABB6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951AC-B17E-4A79-A834-B353CE37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8147F-9497-48E3-B9FC-1C16E03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6811E-EDF8-4347-80E0-58FC68C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A511C-2340-4F48-B59F-362102B4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05AA8-9D10-401C-9DAF-A3BCB92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A68F9-4362-4B09-A44D-A56BC62C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AB207-9CBC-454C-A23E-83B2F721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96973-6B09-4AF7-8754-1DCBDE32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4E673-633A-41E9-9EA3-BADBD55D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1032-1961-4E74-91F6-66B4DB99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264-8889-4A46-890F-C748259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BA20-8175-42D1-B911-39D2D265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A216-9B86-4B56-AB54-A0F38505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FA16-2B37-4F53-8C0B-45724DF8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F996-EA83-48CC-AA02-28E9737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71BC-CBD4-4843-AA09-DECE78C2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7DB1-3C6D-4EE2-B043-D45B569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7246-814F-4E1F-A528-125B3FA9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AE36-CBE8-4EA3-9EE4-92259650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FDE7-B0B2-40DC-BF5E-54383526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79E6-F72A-4CDD-8913-B57671D8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45E-5592-4A04-8E76-80E575E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2302-4990-498F-AAF5-9CA79DFA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A13E-0B25-4B7B-9319-B934A2EE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C7C6-4220-4BBA-A25F-1F29019A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2C75-CBB6-4039-AA94-5CA4EAD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9131-157E-4553-9EF0-8107B54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5B6F-1295-47D9-B59B-B3D1DD8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6EBA-721C-4F2E-B50C-C032D79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3A6E-9834-4831-B0F6-A81A5C4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86B5-3602-45CA-8F07-A91E4A3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5602-7E3F-4FD3-A1EA-7C122CD8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858-D812-43CF-BC02-DF35871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AECF3-C362-4D5C-9F66-D5A962E9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FC77-E21D-4B09-A1AE-6DDA1C9A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49E46-A3A9-4D0E-9E46-1E2B792D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ABE0-4377-4977-B0A2-A5ECCB32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CD83F-F2D1-4C8C-BFC2-9239A28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EAFF-6B52-4372-B65A-C845B5D6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3FC0-A4BB-4EF5-9C54-D547FB11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849B-0563-4DE0-B38B-AFE6DC1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A8ED-F7C1-4691-B7E7-1133806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2EAD-5EA5-4D73-86D2-50D2455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195-C7FB-4E3E-894D-CDF8C82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32C0-B70E-4EF3-89DE-55A80BF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C307-497D-49E3-B43E-8A31C52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A6814-8A4E-4BF9-9481-9E18073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10CE-79B5-43FE-8E52-84AAD6DD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62EE-60F5-47CB-8700-872C3418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EA375-E75C-40B2-B416-D45185ED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60C6D-F9D9-4A92-A049-6AECA3FF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535CB-4AEA-4ADA-82CE-FE6AB56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211610-C36F-4443-99A5-6AA6298C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65E69-2676-49DC-AD5D-4D84413A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E6B-850A-4AEC-B88E-B74084C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34A4C-57EB-4BF0-B692-E1B1791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535741-840C-4F77-AC84-9088B72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1A2135-30A0-419D-92C6-05FB596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F04EC-6B01-416F-A897-E440876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82ABF-1293-49C6-BDEA-6E0CFC1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050D5-FA90-4281-829E-F2FB9C01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9D6CE-6B28-4A08-A5D3-D1BAAC10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52CF7-AA69-4B4C-BB80-2CBBD156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620E1-DE7F-46D5-8B92-D7E79D3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EA7AA-C746-4106-B41D-EC35400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A532-5FBA-428A-8CCD-877642CD3FE1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DC36-1F00-4FB7-AA10-1C4A82376DE7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810-5B28-4F7E-9171-C25699D948B2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AE1-BA6C-435A-8596-C07878BCC7AD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28C-26D9-4AEC-984A-E2A5C79086EF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1253-4569-451D-A4E4-46CB603D0C99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C05-848C-4E6E-965C-C87818B6C6FC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567-EF4D-40C3-AA17-048415486704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7D6-66CC-4078-9394-532C80372EB5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ttp://video.google.es/videoplay?docid=4564467773025644582&amp;ei=WVfrSYiqEprg2wKll6XUBA&amp;q=incendios+forestales&amp;hl=es&amp;client=firefox-a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3 Título" descr=""/>
          <p:cNvPicPr/>
          <p:nvPr/>
        </p:nvPicPr>
        <p:blipFill>
          <a:blip r:embed="rId1"/>
          <a:stretch/>
        </p:blipFill>
        <p:spPr>
          <a:xfrm>
            <a:off x="725400" y="500040"/>
            <a:ext cx="8143920" cy="30481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22160" y="32875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6320" cy="1785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La deforestación y transformación del paisaje vegetal ha respetado zonas de alta montaña y regiones apartadas. Todavía se conservan bosques de hayas y robles, bosques mediterráneos de quejigos, encinas o alcornoqu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 principales de la degradación: incendios, técnicas de monocultivo, desertificació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3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190600" y="2224080"/>
            <a:ext cx="4762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571760" y="2052720"/>
            <a:ext cx="60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Naturales: ray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Inducidas por el hombre: descuidos, provocados para ampliar tierras de cultivos, aprovechar la madera quemada, recalificaciones, venganzas personales, etc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Revisar la política de repoblaciones forestales, no abusando de especies pirófila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Fomentar la mezcla de especies y realizar trabajos de silvicultura preventivo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Tener en cuenta los intereses de la población rural a la hora de las explotaciones foresta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Establecer marcos lega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Mejorar sistemas de prevención, detección y extinción de incendio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Realizar campañas de sensibilizació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b5353"/>
                </a:solidFill>
                <a:uFillTx/>
                <a:latin typeface="Rockwell"/>
                <a:hlinkClick r:id="rId1"/>
              </a:rPr>
              <a:t>mailto:http://video.google.es/videoplay?docid=4564467773025644582&amp;ei=WVfrSYiqEprg2wKll6XUBA&amp;q=incendios+forestales&amp;hl=es&amp;client=firefox-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http://video.google.com/videoplay?docid=4564467773025644582#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http://www.youtube.com/watch?v=0ObK0872m64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0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ffffff"/>
                </a:solidFill>
                <a:latin typeface="Rockwell"/>
              </a:rPr>
              <a:t>"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Por 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diversidad biológica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se entiende la variabilidad de organismos vivos de cualquier fuente, incluidos, entre otras cosas, los ecosistemas terrestres y marinos y otros ecosistemas acuáticos y los complejos ecológicos de los que forman parte; comprende la diversidad dentro de cada especie, entre las especies y de los ecosistemas</a:t>
            </a:r>
            <a:r>
              <a:rPr b="1" i="1" lang="es-ES_tradnl" sz="18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Este concepto contiene tres ideas básicas: son los llamados </a:t>
            </a:r>
            <a:r>
              <a:rPr b="1" lang="es-ES_tradnl" sz="1800" spc="-1" strike="noStrike">
                <a:solidFill>
                  <a:srgbClr val="ffffff"/>
                </a:solidFill>
                <a:latin typeface="Rockwell"/>
              </a:rPr>
              <a:t>componentes de la biodiversidad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los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variedad de sistemas ecológicos diferent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especies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entidades biológicas naturales en las que la característica fundamental es la capacidad de intercambio genético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3)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Rockwell"/>
              </a:rPr>
              <a:t> diversidad genética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la variabilidad de genes que las especies contienen en sus poblaciones e individuos, que les hace ser ligeramente diferentes unos de otros y , con ello, les permite evolucionar y, en su caso, adaptarse a los cambios del medio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ffffff"/>
                </a:solidFill>
                <a:latin typeface="Rockwell"/>
              </a:rPr>
              <a:t>    </a:t>
            </a:r>
            <a:r>
              <a:rPr b="0" lang="es-ES" sz="1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Rockwell"/>
              </a:rPr>
              <a:t>Artículo 2 del Convenio Internacional sobre la Diversidad Biológica. 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Rockwell"/>
              </a:rPr>
              <a:t>Conferencia de Naciones Unidad sobre Medio Ambiente y Desarrollo. Río de Janeiro 1992.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3 Título" descr=""/>
          <p:cNvPicPr/>
          <p:nvPr/>
        </p:nvPicPr>
        <p:blipFill>
          <a:blip r:embed="rId1"/>
          <a:stretch/>
        </p:blipFill>
        <p:spPr>
          <a:xfrm>
            <a:off x="426960" y="-646200"/>
            <a:ext cx="8418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a superficie del tamaño de diez campos de fútbol ubicado en las selvas de Borneo se pueden encontrar más especies de árboles que en todo el continente norteamericano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 solo árbol del Perú se han llegado a contabilizar un número de especies de hormigas similar al total de las que habitan en todas las islas Británicas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Panamá, con una superficie más de 6 veces menor que la española, contiene un número identificado de vertebrados terrestres más de dos veces y media superior al español (1424 frente a 534) y eso que España es uno de los enclaves de Europa con mayor biodiversidad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5 Título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552160" cy="1469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Regiones polares y circumpo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Desiert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Áreas de alta montañ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Zonas húmed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Mang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Arrecifes de cor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rader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Bosques de coníferas y bosques caducifoli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Selv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La biodiversidad es el fruto de millones de años de evolución, resultado de adaptación de la vida a los distintos ambientes y fruto de la selección natural. Proceso descrito básicamente por Charles Darw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186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forma resumida se podría decir que sin ella la vida del hombre sobre la Tierra sería imposibl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la biodiversidad dependen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a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fotosíntesi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si no existiesen plantas no habría fotosíntesis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ella, a su vez, depende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La producción primaria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síntesis de materia  orgánica a partir de la luz solar, agua y 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Base de toda red trófica de los ecosistemas, incluyendo al hombr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Producción de oxígeno y eliminación del C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, con lo que los organismos aerobios no podrían realizar su respiración. Ello, además, contribuye al mantenimiento de la composición gaseosa de la atmósfera y a la estabilidad climátic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4" name="2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6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b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formación y el mantenimiento de los suel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sin ellos no existirían las plantas y sin ellas no existiría la vida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c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ciclos biogeoquím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mecanismos naturales de reciclado de la materia, entre los que destacan la mineralización y saneamiento de los productos orgánicos de desecho. La ausencia de microorganismos, hongos, artrópodos y otros invertebrados implicaría la inmediata inhabitabilidad de la biosfera solo por la interrupción de esta función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d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flujos energét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a lo largo de los distintos componentes de la biocenosi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e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polinización y diseminación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de semilla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f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El control de la erosión del suelo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g)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Control de poblacion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la biodiversidad contribuye al mantenimiento de toda una serie de ajustes entre las distintas poblaciones lo que evita crecimientos explosivos de alguna de ellas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h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alimentación humana y la obtención de productos farmacéuticos: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La alimentación humana depende en un 99% de sustancias producidas  directamente por los seres vivo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Más del 40% de todos los medicamentos comercializados provienen   directamente de sustancias proporcionadas por los seres vivo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 Cuantos nuevos productos farmacéuticos, alimentarios o industriales obtenidos directamente o a través de la utilización de la biotecnología sobre el potencial genético procedente de la biodiversidad se perderán con la desaparición de nuevas especies, hoy todavía desconocida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28400" y="1000080"/>
            <a:ext cx="82580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La extinción de las especies depende en un 99% de causas producidas por el hombre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Unas 100.000 especies están desapareciendo al año y de seguir con el ritmo actual la cuarta parte de todas las especies desaparecerá en un plazo de  unos 30 año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La mayor tragedia en la pérdida de la biodiversidad corresponde al proceso de destrucción de los ecosistemas más ricos en ella: los bosques tropical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Se estima que unos 20 millones de hectáreas de bosques tropicales desaparecen cada año por tala o quema. Esto supone una superficie tal que representa la desaparición, cada dos años y medio, de un territorio, donde se alberga más de la mitad de todas las especies de la tierra,  similar al total de España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La mayor parte de las especies que hoy desaparecen son desconocidas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Realmente se ha pasado de una situación en la que la extinción de especies estaba liderada por mecanismos de acoso directo: caza y pesca, fundamentalmente, a la actualidad, en donde es el deterioro global de la biosfera el que preside la amenaza sobre la biodiversidad. Las especies desaparecen porque sus medios naturales de vida se degradan o desaparecen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2" name="2 Título" descr=""/>
          <p:cNvPicPr/>
          <p:nvPr/>
        </p:nvPicPr>
        <p:blipFill>
          <a:blip r:embed="rId1"/>
          <a:stretch/>
        </p:blipFill>
        <p:spPr>
          <a:xfrm>
            <a:off x="785880" y="0"/>
            <a:ext cx="8235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92844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Deterioro, destrucción y fragmentación de los hábitat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Desecado de humedale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reación de Autopistas (osos asturianos)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Destrucción de bosques.</a:t>
            </a: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analización de río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Grandes embalses que inundan selvas y valle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Introducción de especies exótica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angrejo Americano en Europa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onejos en Australia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3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Sobreexplotación de especi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Deforestación (tala masiva de bosques tropicales)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Sobrepesca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aza excesiva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Recolección de determinadas plantas (medicinales, etc.)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4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ontaminación de suelos, aguas y atmósfer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5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ambio climático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6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Industrialización e intensificación agrícola y forest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Extensas superficies de monocultivos atiborrados de plaguicidas y fertilizantes.</a:t>
            </a: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Plantaciones forestales de especies de rápido  crecimiento en lugares inadecuados y con métodos destructores del medio natural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4" name="2 Título" descr=""/>
          <p:cNvPicPr/>
          <p:nvPr/>
        </p:nvPicPr>
        <p:blipFill>
          <a:blip r:embed="rId1"/>
          <a:stretch/>
        </p:blipFill>
        <p:spPr>
          <a:xfrm>
            <a:off x="500040" y="-171360"/>
            <a:ext cx="8485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Junto con todo lo anteriormente descrito: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Hambre en el mundo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Inundaciones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: consecuencia de la deforestación. Levante español. En Bangladesh por la deforestación del Himalaya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Desertificación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Toda pérdida de la biodiversidad: la degradación de un bosque, la pérdida de una especie, la desaparición de una raza autóctona, etc. conlleva una </a:t>
            </a: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pérdida de nuestra calidad de vida, de nuestras expectativas de vivir mejor y un aumento de la ya larga cuenta negra de nuestra responsabilidad ética para con nuestros descendientes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6" name="2 Título" descr=""/>
          <p:cNvPicPr/>
          <p:nvPr/>
        </p:nvPicPr>
        <p:blipFill>
          <a:blip r:embed="rId1"/>
          <a:stretch/>
        </p:blipFill>
        <p:spPr>
          <a:xfrm>
            <a:off x="457200" y="-285840"/>
            <a:ext cx="8358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Protección de especies en peligro de extinción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catalogación de las distintas especies en peligro de extinción, establecimiento de una legislación para su protección y cumplimiento de la misma, tanto a nivel nacional como internacional. Se deberá evitar el comercio indiscriminado de las mima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Establecimiento de sistemas de explotación sostenible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leyes de caza y pesca, establecimiento de cotos y períodos de veda que eviten la sobreexplotación de las distintas especies animales y vegetal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Protección de los distintos ecosistemas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 si queremos que una especie perdure, no solamente se debe de proteger a esa especie evitando su caza o captura, sino conservar sus hábitats naturales. A ello contribuye el establecimiento de Reservas de la Biosfera, Parques Nacionales y espacios protegidos. Estos, además, generan turismo, permiten la investigación científica y contribuyen al equilibrio natural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Creación de bancos de genes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,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jardines botánicos y fomento, para determinadas especies, de cría en cautividad: Aunque no es la mejor solución puede contribuir a la perdurabilidad de ciertas especi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A nivel personal, se deberá evitar el coleccionismo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de especies vegetales o animales, tanto autóctonas como exóticas; la adquisición de animales de compañía en riesgo de extinción o la introducción de especies exóticas en nuestros hábitat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8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cencos.org/files/images/Manglares.jpg"/>
          <p:cNvPicPr/>
          <p:nvPr/>
        </p:nvPicPr>
        <p:blipFill>
          <a:blip r:embed="rId1"/>
          <a:stretch/>
        </p:blipFill>
        <p:spPr>
          <a:xfrm>
            <a:off x="1785960" y="128592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estaticos04.ocholeguas.com/imagenes/2008/09/04/1219401715_0.jpg"/>
          <p:cNvPicPr/>
          <p:nvPr/>
        </p:nvPicPr>
        <p:blipFill>
          <a:blip r:embed="rId1"/>
          <a:stretch/>
        </p:blipFill>
        <p:spPr>
          <a:xfrm>
            <a:off x="1857240" y="1500120"/>
            <a:ext cx="4381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kalipedia.com/kalipediamedia/cienciasnaturales/media/200704/17/tierrayuniverso/20070417klpcnatun_255.Ies.SCO.jpg"/>
          <p:cNvPicPr/>
          <p:nvPr/>
        </p:nvPicPr>
        <p:blipFill>
          <a:blip r:embed="rId1"/>
          <a:stretch/>
        </p:blipFill>
        <p:spPr>
          <a:xfrm>
            <a:off x="500040" y="1357200"/>
            <a:ext cx="4786200" cy="3533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teknociencia.files.wordpress.com/2009/07/coral_4.jpg"/>
          <p:cNvPicPr/>
          <p:nvPr/>
        </p:nvPicPr>
        <p:blipFill>
          <a:blip r:embed="rId2"/>
          <a:stretch/>
        </p:blipFill>
        <p:spPr>
          <a:xfrm>
            <a:off x="5715000" y="1000080"/>
            <a:ext cx="2857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http://files.nireblog.com/blogs4/procladeyanapay/files/selva.jpg"/>
          <p:cNvPicPr/>
          <p:nvPr/>
        </p:nvPicPr>
        <p:blipFill>
          <a:blip r:embed="rId1"/>
          <a:stretch/>
        </p:blipFill>
        <p:spPr>
          <a:xfrm>
            <a:off x="5572080" y="18572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http://eltamiz.com/wp-content/uploads/2007/12/selva-tropical.jpg"/>
          <p:cNvPicPr/>
          <p:nvPr/>
        </p:nvPicPr>
        <p:blipFill>
          <a:blip r:embed="rId2"/>
          <a:stretch/>
        </p:blipFill>
        <p:spPr>
          <a:xfrm>
            <a:off x="428760" y="571680"/>
            <a:ext cx="50482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html.rincondelvago.com/files/3/2/4/000633241.jpg"/>
          <p:cNvPicPr/>
          <p:nvPr/>
        </p:nvPicPr>
        <p:blipFill>
          <a:blip r:embed="rId1"/>
          <a:stretch/>
        </p:blipFill>
        <p:spPr>
          <a:xfrm>
            <a:off x="571680" y="1643040"/>
            <a:ext cx="2381040" cy="249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kalipedia.com/kalipediamedia/cienciasnaturales/media/200704/17/tierrayuniverso/20070417klpcnatun_386.Ies.SCO.jpg"/>
          <p:cNvPicPr/>
          <p:nvPr/>
        </p:nvPicPr>
        <p:blipFill>
          <a:blip r:embed="rId2"/>
          <a:stretch/>
        </p:blipFill>
        <p:spPr>
          <a:xfrm>
            <a:off x="3214800" y="1500120"/>
            <a:ext cx="52862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4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0200" cy="1785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xplotaciones madederas indiscriminada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gricultura transito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Desarrollo de pastos para ganad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Minería a cielo abiert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mbalses gigantesc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515440" cy="141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lanes económico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ondonación de deuda extern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Usos tradicionales del bosque (extracción de caucho, frutas, semillas..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ultivo de plant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ría de animales nativ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iscicultu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Ecoturism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5:55:25Z</dcterms:created>
  <dc:creator>Inma</dc:creator>
  <dc:description/>
  <dc:language>en-US</dc:language>
  <cp:lastModifiedBy>inma</cp:lastModifiedBy>
  <dcterms:modified xsi:type="dcterms:W3CDTF">2012-04-19T16:50:21Z</dcterms:modified>
  <cp:revision>26</cp:revision>
  <dc:subject/>
  <dc:title>Impactos en la biosfera</dc:title>
</cp:coreProperties>
</file>